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82C-8F84-4488-8E37-0BB7EC7B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D46-131E-4428-8BEF-250DCAD2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7B8-E5C5-4F17-B110-8886288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48D-DBAB-4262-A88E-C0F44574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357-D545-4463-8419-2704C576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743-C97E-4BD3-BDA7-7ECCF5F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4C7-4090-48F0-AA16-D1FDC6AB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8B5-D92A-432E-B6DB-F1EEF1CA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310-EE80-4C45-BB4E-D23C7DE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946-90FC-4474-8D31-C42263B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A0E-6270-43A2-9D74-3E48028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A19-981B-4C35-9B42-748D30B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1DA2-27C5-4208-A7E9-18A74875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5240" y="1589040"/>
            <a:ext cx="4672080" cy="367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46720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best president of all the presidents. He was nice to peopl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ss Abraham. Lincoln lived in the White House. We lost a great m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was a very nice man, as nice to a lot of great men. He was good to girls and boys. I love GEORGE WASHINGTON. HE WA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26:49Z</dcterms:created>
  <dc:creator>Carolyn Spielmann</dc:creator>
  <dc:description/>
  <dc:language>en-US</dc:language>
  <cp:lastModifiedBy>Carolyn Spielmann</cp:lastModifiedBy>
  <dcterms:modified xsi:type="dcterms:W3CDTF">2010-01-11T17:03:07Z</dcterms:modified>
  <cp:revision>2</cp:revision>
  <dc:subject/>
  <dc:title>Comparing Presidents</dc:title>
</cp:coreProperties>
</file>